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53C4-181D-4B89-80B3-E7E673DBF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F8BE-4C1E-4FD1-81D7-F153A9AD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E847-9195-42EE-985E-7CB87A59D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1296-9F5E-45AD-AC24-EFFF65A4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9798-AA55-4141-AED9-381F4558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0877-1EA7-4213-886F-DCF3B3EF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F7E2-735B-4CFD-A0AD-6D160B4E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F607-D14E-43C7-9BD8-6280DD5E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534B-D5D3-4421-90C8-A6DD9A1B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E508-D08A-4CC9-A0AC-5951796C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2129-0C63-428C-9654-696276F6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F1A9-3DE6-419C-B469-77E29E1F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36BD-8479-44AD-BA2B-6D732C6E0A3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A48B-BD6C-4999-8AB2-1C6137434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 S 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ufklärung tut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RIFF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NNZEICH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Buddenkuh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AD4D-DB6B-4368-882B-4A26DB9D61D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ABB29-E23C-420D-9EB7-D55CBEEA370B}" type="datetime1">
              <a:rPr lang="en-US"/>
              <a:t>07/30/26</a:t>
            </a:fld>
          </a:p>
        </p:txBody>
      </p:sp>
    </p:spTree>
  </p:cSld>
  <p:transition spd="med" advTm="200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 - Adressen zu B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209680"/>
            <a:ext cx="8915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atenbank für Rinder: </a:t>
            </a:r>
            <a:r>
              <a:rPr b="1" lang="de-DE" sz="2000" spc="-1" strike="noStrike" u="sng">
                <a:solidFill>
                  <a:srgbClr val="ff0000"/>
                </a:solidFill>
                <a:uFillTx/>
                <a:latin typeface="Times New Roman"/>
              </a:rPr>
              <a:t>www.Hi-Tier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Zentrale Marketing-Gesellschaft der deutschen Agrarwirtschaft:  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imes New Roman"/>
              </a:rPr>
              <a:t>www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imes New Roman"/>
              </a:rPr>
              <a:t>.cma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utscher Bauernverband: 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imes New Roman"/>
              </a:rPr>
              <a:t>www.bauernverband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undesministerium Verbraucherschutz und Landwirtschaft: 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imes New Roman"/>
              </a:rPr>
              <a:t>www.bml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undesforschungsanstalt für Fleischforschung(BAFF): 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imes New Roman"/>
              </a:rPr>
              <a:t>www.dainet.de/b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undesforschungsanstalt für Viruserkrankungen bei Tieren: </a:t>
            </a:r>
            <a:r>
              <a:rPr b="1" lang="de-DE" sz="2000" spc="-1" strike="noStrike" u="sng">
                <a:solidFill>
                  <a:srgbClr val="ff0000"/>
                </a:solidFill>
                <a:uFillTx/>
                <a:latin typeface="Times New Roman"/>
              </a:rPr>
              <a:t>www.dainet.de.bf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chtsvorschriften zu BSE: 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imes New Roman"/>
              </a:rPr>
              <a:t>www.europa.eu.int/comm/food/fs/bse/19_de.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imes New Roman"/>
              </a:rPr>
              <a:t>html</a:t>
            </a:r>
            <a:r>
              <a:rPr b="1" lang="de-DE" sz="2000" spc="-1" strike="noStrike" u="sng">
                <a:solidFill>
                  <a:srgbClr val="ff33cc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Zeitschriften: Focus : 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imes New Roman"/>
              </a:rPr>
              <a:t>www.focus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piegel: </a:t>
            </a:r>
            <a:r>
              <a:rPr b="1" lang="de-DE" sz="2000" spc="-1" strike="noStrike" u="sng">
                <a:solidFill>
                  <a:srgbClr val="ff33cc"/>
                </a:solidFill>
                <a:uFillTx/>
                <a:latin typeface="Times New Roman"/>
              </a:rPr>
              <a:t> 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imes New Roman"/>
              </a:rPr>
              <a:t>www.spiegel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op agrar: </a:t>
            </a:r>
            <a:r>
              <a:rPr b="1" lang="de-DE" sz="2000" spc="-1" strike="noStrike" u="sng">
                <a:solidFill>
                  <a:srgbClr val="ff0000"/>
                </a:solidFill>
                <a:uFillTx/>
                <a:latin typeface="Times New Roman"/>
              </a:rPr>
              <a:t>www.topagrar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Buddenkuh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16ED-3D3E-4A69-8B57-FDF8D0F99FB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46861-E327-4C70-A2FB-CBB353832F66}" type="datetime1">
              <a:rPr lang="en-US"/>
              <a:t>07/30/26</a:t>
            </a:fld>
          </a:p>
        </p:txBody>
      </p:sp>
    </p:spTree>
  </p:cSld>
  <p:transition spd="med" advTm="21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Times New Roman"/>
              </a:rPr>
              <a:t>Begriff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85800" y="1600200"/>
          <a:ext cx="7772400" cy="4200480"/>
        </p:xfrm>
        <a:graphic>
          <a:graphicData uri="http://schemas.openxmlformats.org/drawingml/2006/table">
            <a:tbl>
              <a:tblPr/>
              <a:tblGrid>
                <a:gridCol w="3048120"/>
                <a:gridCol w="4724280"/>
              </a:tblGrid>
              <a:tr h="97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SE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ine </a:t>
                      </a: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giforme </a:t>
                      </a: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zephalopath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übersetzt heißt da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wammartige Erkrankung des Gehirns bei Rind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E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smissible </a:t>
                      </a: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giforme </a:t>
                      </a: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zephalopath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übersetzt heißt da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wammartige Erkrankung des Gehirns bei anderen Tierar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Buddenkuh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6A74-1900-4717-AE3B-547B2B75F6A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C57AC3-F25D-40A5-8C3D-71BD37CE8650}" type="datetime1">
              <a:rPr lang="en-US"/>
              <a:t>07/30/26</a:t>
            </a:fld>
          </a:p>
        </p:txBody>
      </p:sp>
    </p:spTree>
  </p:cSld>
  <p:transition spd="med" advTm="17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Times New Roman"/>
              </a:rPr>
              <a:t>Begriff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85800" y="1752480"/>
          <a:ext cx="7696080" cy="4044960"/>
        </p:xfrm>
        <a:graphic>
          <a:graphicData uri="http://schemas.openxmlformats.org/drawingml/2006/table">
            <a:tbl>
              <a:tblPr/>
              <a:tblGrid>
                <a:gridCol w="3206880"/>
                <a:gridCol w="4489200"/>
              </a:tblGrid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FJ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utzfeld-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ob-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khe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on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inous infectious particle = Eiweiß( Protei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übersetzt heißt da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steckende eiweißartige Teilc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vCJK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ue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iante der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utzfeld-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ob-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khe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Buddenkuh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D367-CDDB-4B8C-858D-45B6E6DB800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E2B650-4DAB-48E2-A13B-AA0B8FD0DC01}" type="datetime1">
              <a:rPr lang="en-US"/>
              <a:t>07/30/26</a:t>
            </a:fld>
          </a:p>
        </p:txBody>
      </p:sp>
    </p:spTree>
  </p:cSld>
  <p:transition spd="med" advTm="17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Times New Roman"/>
              </a:rPr>
              <a:t>Begriff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uchen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enn die Krankheit eines Tieres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 innerhalb eines Betriebes innerhalb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 kurzer Zeit auf alle Tiere übertragen wird.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685800" y="4038480"/>
            <a:ext cx="98298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peratorenfleisch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Fleisch,dass direkt von den Knochen abgelöst wurde.     Es wurde zu Wurst verarbeit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Buddenkuh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8450-E4EE-45C7-9755-AD01E40BCA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2B6ED-8E76-4761-AED0-6AF53D1CFABF}" type="datetime1">
              <a:rPr lang="en-US"/>
              <a:t>07/30/26</a:t>
            </a:fld>
          </a:p>
        </p:txBody>
      </p:sp>
    </p:spTree>
  </p:cSld>
  <p:transition spd="med" advTm="16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 flipV="1">
            <a:off x="533520" y="29664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22860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79640" y="187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7036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22860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08040" y="156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066680"/>
            <a:ext cx="117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Bundes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335268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Name des Züch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8720" y="435456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Tierdate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6440" y="5116680"/>
            <a:ext cx="123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Ohrmarke der Mu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6095880"/>
            <a:ext cx="532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Verbindliche Unterschrift des Erzeugers,dass die Angaben stim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924680" y="18288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Ohrmark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des Tie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848720" y="26668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Betriebs 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731520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985160" y="3135240"/>
            <a:ext cx="93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Herkunf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us d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us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13040" y="4202280"/>
            <a:ext cx="93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Times New Roman"/>
              </a:rPr>
              <a:t>Datum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de-DE" sz="1400" spc="-1" strike="noStrike" u="sng">
                <a:solidFill>
                  <a:srgbClr val="000000"/>
                </a:solidFill>
                <a:uFillTx/>
                <a:latin typeface="Times New Roman"/>
              </a:rPr>
              <a:t>Schlacht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Times New Roman"/>
              </a:rPr>
              <a:t>nachwe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315200" y="5181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137800" y="5116680"/>
            <a:ext cx="80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rämi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gewäh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Times New Roman"/>
              </a:rPr>
              <a:t>Begleitpap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3526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Begleit1" descr=""/>
          <p:cNvPicPr/>
          <p:nvPr/>
        </p:nvPicPr>
        <p:blipFill>
          <a:blip r:embed="rId2"/>
          <a:stretch/>
        </p:blipFill>
        <p:spPr>
          <a:xfrm>
            <a:off x="1752480" y="1447920"/>
            <a:ext cx="5562720" cy="4735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66680" y="137160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35812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457200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143000" y="5867280"/>
            <a:ext cx="2362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6781320" y="4419360"/>
            <a:ext cx="1295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781680" y="2743200"/>
            <a:ext cx="9907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77120" y="205740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476760" y="91440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934320" y="62064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Rinderpass 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Buddenkuh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22EA-59BD-4461-84CA-1B7731669D6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2EDFDB-05E7-4966-A9D6-0B5BB7EBB767}" type="datetime1">
              <a:rPr lang="en-US"/>
              <a:t>07/30/26</a:t>
            </a:fld>
          </a:p>
        </p:txBody>
      </p:sp>
    </p:spTree>
  </p:cSld>
  <p:transition spd="med" advTm="14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1676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Rückseite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2286000" y="1371600"/>
            <a:ext cx="3409920" cy="4357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600200" y="1752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295280"/>
            <a:ext cx="2451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Name u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dresse 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nächsten Besit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98560" y="2373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952520" y="18288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15238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Betriebsstätten 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5715000"/>
            <a:ext cx="586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66"/>
                </a:solidFill>
                <a:latin typeface="Times New Roman"/>
              </a:rPr>
              <a:t>Jeder Besitzerwechsel muss innerhalb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von 3 Tagen</a:t>
            </a:r>
            <a:r>
              <a:rPr b="1" lang="en-US" sz="1400" spc="-1" strike="noStrike">
                <a:solidFill>
                  <a:srgbClr val="66ff66"/>
                </a:solidFill>
                <a:latin typeface="Times New Roman"/>
              </a:rPr>
              <a:t> i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66"/>
                </a:solidFill>
                <a:latin typeface="Times New Roman"/>
              </a:rPr>
              <a:t>Bestandsverzeichnis des Betriebes angegeben wer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Times New Roman"/>
              </a:rPr>
              <a:t>Rückseite des Begleitpap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28800" y="2133360"/>
            <a:ext cx="1066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22084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atum des Abga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10280" y="60199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Buddenkuh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0F71-6215-441E-A2A6-6F30A11F64A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AC6CDB-4B08-4253-9A73-193A546A330E}" type="datetime1">
              <a:rPr lang="en-US"/>
              <a:t>07/30/26</a:t>
            </a:fld>
          </a:p>
        </p:txBody>
      </p:sp>
    </p:spTree>
  </p:cSld>
  <p:transition spd="med" advTm="14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standsverzeichnis des Betrie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55760" y="32878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12960" y="2373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1828800"/>
            <a:ext cx="142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Times New Roman"/>
              </a:rPr>
              <a:t>Fortlaufende N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840" y="260208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0000"/>
                </a:solidFill>
                <a:uFillTx/>
                <a:latin typeface="Times New Roman"/>
              </a:rPr>
              <a:t>Ohrmar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27560" y="33638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Bestand2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676520" y="1523880"/>
            <a:ext cx="5844960" cy="4496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1143000" y="281952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2133720"/>
            <a:ext cx="83844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1676520"/>
            <a:ext cx="15264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99072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nschrift der Betriebsstät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175248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27480" y="1143000"/>
            <a:ext cx="264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Times New Roman"/>
              </a:rPr>
              <a:t>Unternehmer + Registrier N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72200" y="160020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3886200"/>
            <a:ext cx="1905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341280" y="3592440"/>
            <a:ext cx="194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Geburtsdat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4952880"/>
            <a:ext cx="20574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0920" y="480060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Ra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624852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Geschlec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886200" y="5486040"/>
            <a:ext cx="763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0" y="6400800"/>
            <a:ext cx="129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Herkunfts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819520" y="5409720"/>
            <a:ext cx="83808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495680" y="5105520"/>
            <a:ext cx="0" cy="83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6019920"/>
            <a:ext cx="188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Ohrmarke der Mu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800240" y="2590920"/>
            <a:ext cx="2438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42000" y="2362320"/>
            <a:ext cx="13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Zugangsdat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409720" y="3200400"/>
            <a:ext cx="20574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32760" y="3059280"/>
            <a:ext cx="160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nschrift d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Vorbesit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019560" y="4191120"/>
            <a:ext cx="1523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82000" y="4049640"/>
            <a:ext cx="196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bgangsdat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400440" y="510552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96080" y="4952880"/>
            <a:ext cx="99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bneh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040" y="1001880"/>
            <a:ext cx="25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Rinder männlich oder weibli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Buddenkuh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DF98-9C2B-4B0F-A060-E28CF7F07AF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45EFC-635C-4578-8764-99A9C74209A6}" type="datetime1">
              <a:rPr lang="en-US"/>
              <a:t>07/30/26</a:t>
            </a:fld>
          </a:p>
        </p:txBody>
      </p:sp>
    </p:spTree>
  </p:cSld>
  <p:transition spd="med" advTm="14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ierrassen Codierun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50840" y="26020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Tiercode(4)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7740360" cy="5334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495680" y="419112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0000"/>
                </a:solidFill>
                <a:uFillTx/>
                <a:latin typeface="Times New Roman"/>
              </a:rPr>
              <a:t>Es gibt 99 Tierrassenkennzei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Buddenkuh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E56A-D9E3-4924-8A8F-0E96C1EF8B2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8051C8-6535-4D79-925A-277E3C519B32}" type="datetime1">
              <a:rPr lang="en-US"/>
              <a:t>07/30/26</a:t>
            </a:fld>
          </a:p>
        </p:txBody>
      </p:sp>
    </p:spTree>
  </p:cSld>
  <p:transition spd="med" advTm="12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Times New Roman"/>
              </a:rPr>
              <a:t>Hi-T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3640" y="2373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838080"/>
            <a:ext cx="83059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Viehverkehrsverordnung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reibt vor, dass alle Rinder in Deutschland ab dem 26.09.199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in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entralen Datenban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rfasst werden. Diese Datenbank befindet sic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ünc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der Bauer, Händler und Schlachthof muss die Veränderungen eines Tiers hier mel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uern müssen Geburten, Zukäufe oder Verkäufe eines Tieres hi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nerhalb von 7 Tagen mel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 diese Datenbank haben Kontrollbehörden Zugrif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kann innerhalb von Minuten nachvollzogen werden, wer ein Tier produziert hat 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chen Weg es genommen h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.B. Wird BSE in einem Betrieb festgestellt, so kann jeder Betrieb festgestellt werden, der Tiere aus diesem Betrieb gekauft oder verkauft hat oder welchen Weg das Tier nah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Buddenkuh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11AA-F521-40D7-91AA-DF81AF7DCE4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531DB-EAAF-468E-8992-2FDFE15B9319}" type="datetime1">
              <a:rPr lang="en-US"/>
              <a:t>07/30/26</a:t>
            </a:fld>
          </a:p>
        </p:txBody>
      </p:sp>
    </p:spTree>
  </p:cSld>
  <p:transition spd="med" advTm="27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2T14:10:35Z</dcterms:created>
  <dc:creator>Silke Buddenkuhl</dc:creator>
  <dc:description/>
  <dc:language>en-US</dc:language>
  <cp:lastModifiedBy>Silke Buddenkuhl</cp:lastModifiedBy>
  <dcterms:modified xsi:type="dcterms:W3CDTF">2001-02-04T15:08:10Z</dcterms:modified>
  <cp:revision>25</cp:revision>
  <dc:subject/>
  <dc:title>BSE</dc:title>
</cp:coreProperties>
</file>